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E765-A8B6-49C3-BE73-A3932CBFB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CA49-E31F-43D1-83F1-BBDB7F9E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65B6-5C36-4978-9435-48FCAC1AF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03BB-BD77-4764-B4C1-96653EAC8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4155-3478-4DC3-8D82-65B791F43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810E0-4558-465F-AB35-FBB74F04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A64A-898F-460C-BC98-39F4FD8C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807C1-6FCA-4250-80D7-51EFB75A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7BFB-F619-4C11-9063-98AF7ADF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EDB5-DF83-4B6A-B67F-AEC03737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34F7-4F01-4DA0-8E44-E81A79AC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4EF2-FE78-4BF3-AF30-729EBB25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1A61-0559-4392-B3E2-E56BBF88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29E5-64FC-43A9-ACA6-85808A84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EF01-821A-4130-B779-383B5385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AB96-7909-4E24-BB66-0B1147155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69A3-E00E-4BCE-9D35-9FC37847B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0792-DA9C-4AF3-8079-F252395C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D78E-201B-445F-9946-37A1944E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B0EC-9938-4A20-9B0E-DB193D95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5F27-1005-4FF6-B43D-C261B996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BBC6-6D65-4A37-ADC4-A31FDFA4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DF95-C83C-4B48-BFB9-DE3F75C0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1F73-2A5C-4A30-90F6-3F163710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2F81-028C-44E3-BE27-88901A1A9AF6}" type="slidenum">
              <a:rPr b="0" lang="pt-B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94B6-3BE0-47D8-BF97-C9FCFE2FD560}" type="slidenum">
              <a:rPr b="0" lang="pt-B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607320"/>
            <a:ext cx="7678800" cy="10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Verdana"/>
              </a:rPr>
              <a:t>Presidência da República </a:t>
            </a:r>
            <a:br>
              <a:rPr sz="2000"/>
            </a:br>
            <a:r>
              <a:rPr b="0" lang="pt-BR" sz="2000" spc="-1" strike="noStrike">
                <a:solidFill>
                  <a:srgbClr val="003366"/>
                </a:solidFill>
                <a:latin typeface="Verdana"/>
              </a:rPr>
              <a:t>Secretaria Especial de Desenvolvimento Urbano</a:t>
            </a:r>
            <a:br>
              <a:rPr sz="2000"/>
            </a:br>
            <a:r>
              <a:rPr b="0" lang="pt-BR" sz="2000" spc="-1" strike="noStrike">
                <a:solidFill>
                  <a:srgbClr val="003366"/>
                </a:solidFill>
                <a:latin typeface="Verdana"/>
              </a:rPr>
              <a:t>Programa de Modernização do Setor Saneamento - PMS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90360" y="2895480"/>
            <a:ext cx="746748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anorama dos Serviços e Necessidades de Investimentos para 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400"/>
            </a:br>
            <a:r>
              <a:rPr b="0" lang="pt-BR" sz="3600" spc="-1" strike="noStrike">
                <a:solidFill>
                  <a:srgbClr val="000000"/>
                </a:solidFill>
                <a:latin typeface="Verdana"/>
              </a:rPr>
              <a:t>Universalização dos Serviços de Água e Esgotos no Brasi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Panorama atual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9023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Estimativas e comportamento dos investiment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3520" y="3124080"/>
            <a:ext cx="8153280" cy="113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4" name=""/>
          <p:cNvGraphicFramePr/>
          <p:nvPr/>
        </p:nvGraphicFramePr>
        <p:xfrm>
          <a:off x="1371600" y="4343400"/>
          <a:ext cx="6858000" cy="2209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4343400"/>
                    <a:ext cx="68580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Panorama do setor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9023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Estimativas e comportamento dos investiment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981080" y="3056040"/>
          <a:ext cx="5257800" cy="355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056040"/>
                    <a:ext cx="5257800" cy="35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Agenda do setor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9023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35000" indent="-577800">
              <a:spcBef>
                <a:spcPts val="601"/>
              </a:spcBef>
              <a:buClr>
                <a:srgbClr val="9a0000"/>
              </a:buClr>
              <a:buSzPct val="70000"/>
              <a:buFont typeface="Verdana"/>
              <a:buAutoNum type="roman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strutura de regulação do setor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5000" indent="-577800">
              <a:spcBef>
                <a:spcPts val="601"/>
              </a:spcBef>
              <a:buClr>
                <a:srgbClr val="9a0000"/>
              </a:buClr>
              <a:buSzPct val="70000"/>
              <a:buFont typeface="Verdana"/>
              <a:buAutoNum type="roman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novos modelos institucionais e de gestã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5000" indent="-577800">
              <a:spcBef>
                <a:spcPts val="601"/>
              </a:spcBef>
              <a:buClr>
                <a:srgbClr val="9a0000"/>
              </a:buClr>
              <a:buSzPct val="70000"/>
              <a:buFont typeface="Verdana"/>
              <a:buAutoNum type="roman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focalização e integração das ações compensatória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5000" indent="-577800">
              <a:spcBef>
                <a:spcPts val="601"/>
              </a:spcBef>
              <a:buClr>
                <a:srgbClr val="9a0000"/>
              </a:buClr>
              <a:buSzPct val="70000"/>
              <a:buFont typeface="Verdana"/>
              <a:buAutoNum type="roman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novo padrão de financiament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5000" indent="-577800">
              <a:spcBef>
                <a:spcPts val="601"/>
              </a:spcBef>
              <a:buClr>
                <a:srgbClr val="9a0000"/>
              </a:buClr>
              <a:buSzPct val="70000"/>
              <a:buFont typeface="Verdana"/>
              <a:buAutoNum type="roman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cooperação entre os diversos níveis de governo; 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35000" indent="-577800">
              <a:spcBef>
                <a:spcPts val="601"/>
              </a:spcBef>
              <a:buClr>
                <a:srgbClr val="9a0000"/>
              </a:buClr>
              <a:buSzPct val="70000"/>
              <a:buFont typeface="Verdana"/>
              <a:buAutoNum type="roman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ções estruturantes e emergenciais para o período de transição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914400" y="2362320"/>
            <a:ext cx="5486400" cy="4343400"/>
          </a:xfrm>
          <a:custGeom>
            <a:avLst/>
            <a:gdLst>
              <a:gd name="textAreaLeft" fmla="*/ 734760 w 5486400"/>
              <a:gd name="textAreaRight" fmla="*/ 4751640 w 5486400"/>
              <a:gd name="textAreaTop" fmla="*/ 759960 h 4343400"/>
              <a:gd name="textAreaBottom" fmla="*/ 3148920 h 4343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Agenda do setor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9023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35000" indent="-5778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ara revisar e implementar a agenda do setor, considerando ainda novos governos estaduais e federal a partir de janeiro de 2003, é preciso aprimorar as avaliaçõ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09760" indent="-4953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xistem informações novas importantes, como Censo 2000 e PNSB 20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409760" indent="-4953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xiste uma série histórica e crescente de informações sobre o setor – SNIS-PMSS-SEDU, de 1995 a 2001 (inicia coleta em maio), que cobre aproximadamente 90% dos serviços e 75% dos municípios brasileir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409760" indent="-4953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xistem novas e crescentes demand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784520" indent="-41292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or melhora na qualidade dos serviç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784520" indent="-41292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or melhor qualidade da água – portaria n. do 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784520" indent="-41292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ara tratamento de esgot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784520" indent="-41292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ara redução de perd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784520" indent="-41292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ara saneamento rural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6400800" y="533412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Quanto custa a universalização e como financia-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Estudo sobre necessidade de investimento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9023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1024560" indent="-5716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Objetivo: dimensionar o volume de investimentos necessários à universalização do acesso aos serviços de água e esgoto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24560" indent="-5716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Considerando: evolução do padrão demográfico no país, caraterísticas das cidades brasileiras, diferenças de acesso aos serviços nas regiões mais pobres, padrões de atendimento dos serviços que contemplem as principais deficiênci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24560" indent="-5716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 unidade base para a estimação dos investimentos será o estado. A metodologia utilizada deverá permitir que qualquer município (ou região) do país dimensione suas necessidades de investimentos para a universalização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Estudo sobre necessidade de investimento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9023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1003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03680" indent="-56016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Metodologia para estimação do défiit atual e da demanda futura, incluindo as definições de serviços adequados e de cená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03680" indent="-56016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Déficit atual e estimação da demanda futura dos serviços de abastecimento de água e de esgotamento sanitár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03680" indent="-56016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Déficit atual e demanda futura nos estados, grandes regiões, regiões metropolitanas e municípios, sendo estes grupados por porte, separando, para todos os casos, áreas urbanas e rura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03680" indent="-56016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Déficit atual e demanda futura por etapas principais dos serviços, como, por exemplo, captação, tratamento, reservação, adução e distribuição, coleta, tratamento e disposição final, incluindo necessidades de reposição, para a  universalização do acesso aos serviços de água e esgoto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03680" indent="-56016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Resultados e conclusõ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Estudo sobre necessidade de investimento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9023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35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5000" indent="-57780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Metodologia para estimação dos custos unitário e total de expansão e de reabilitação dos serviços de água e dos serviços de coleta e tratamento de esgotos , considerando padrões de atendimento e estratégias para a universalização, considerand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5000" indent="-577800" algn="just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rogressividade no atendimento total dos serviços por rede, nas áreas urbanas, especialmente para esgotamento sanitár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5000" indent="-577800" algn="just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o de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soluções alternativas para a provisão dos serviç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5000" indent="-577800" algn="just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riorização aos municípios com maior incidência de doenças relacionadas com ausência ou insuficiência dos serviç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5000" indent="-577800" algn="just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riorização dos municípios mais pobres do paí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5000" indent="-577800" algn="just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melhoria da qualidade dos serviços presta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Estudo sobre necessidade de investimento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9023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1003680" indent="-56016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stimação dos custos de expansão, de reabilitação e  de melhoria da qualidade dos serviç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03680" indent="-56016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ustos de expansão dos sistem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03680" indent="-56016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ustos para atendimento das normas atual e futura de potabilidade da águ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03680" indent="-56016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ustos de reabilitação dos sistemas, considerando a possibilidade de otimização da prestação dos serviço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03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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ustos nas áreas urbanas e rurais, inclusive considerando soluções alternativas para as localidades rurai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03680" indent="-56016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ustos de implantação dos serviços de tratamento de esgotos em áreas urbanas e rurais;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03680" indent="-56016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ção dos Investimentos totais necessários à universalização dos serviços segundo os estados, grandes regiões, regiões metropolitanas, por porte de cid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Estudo sobre necessidade de investimento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9023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952200" indent="-531360" algn="just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onsiderações para o trabalh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6720" indent="-455400" algn="just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grau e tendências de urbanização nos esta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96720" indent="-455400" algn="just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utilização de tecnologias apropriadas e de baixo custo de acordo com as especificidades loca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96720" indent="-455400" algn="just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proveitamento das economias de escala e de escopo, necessidades de reposição de capit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96720" indent="-455400" algn="just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diferenciais regionais de custo referentes aos aspectos geográficos, ambientais e de recursos hídricos e em relação ao por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96720" indent="-455400" algn="just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gradualização dos investimentos, especialmente em tratamento e destinação final de esgo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96720" indent="-455400" algn="just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cesso prioritário aos mais pob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96720" indent="-455400" algn="just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melhoria da qualidade dos serviços atualmente oferecidos, especialmente eliminação de racionamento e intermitência na provisão dos serviços de águ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96720" indent="-455400" algn="just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investimentos em otimização de sistemas, incluindo incremento de atendimento decorrente, por exemplo, de redução de perdas de água e de operação adequada de ETEs existen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Estudo sobre necessidade de investimento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9023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35000" indent="-577800" algn="just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dutos esperados, discutidos e aprovados previamente por um “fórum” do setor e pelo PMSS-SED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409760" indent="-495360" algn="just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duto   1    - Plano do Trabalho e Metodologia para a elaboração dos Estu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09760" indent="-495360" algn="just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duto 2 - Caracterização do Déficit Atual e Estimação da Demanda Futura para a Universalização dos Serviços de Águ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09760" indent="-495360" algn="just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duto  3  - Estimação dos Custos Unitário e Total à Universalização dos Serviços Segundo Padrões Definidos de Atendim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097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09760" indent="-495360" algn="just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azo estimado – 6 meses, a partir de maio de 200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0350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Panorama atual</a:t>
            </a: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	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Déficit dos serviç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762120" y="2666880"/>
            <a:ext cx="7696080" cy="34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Panorama atual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Déficits absolut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ur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Água (rede e fonte própria) – 1,7 milh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gotos (rede e fossa)– 6,4 milhõ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Urban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Água (rede) – 3,7 milhõ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gotos (rede) – 16,0 milhõ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gotos (rede e fossa) – 10,2 milhõ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Panorama atual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Déficits e pobrez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62120" y="2666880"/>
            <a:ext cx="75438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Panorama atual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Déficits regiona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-77760" y="2741760"/>
            <a:ext cx="917748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Panorama atual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Déficits e estrutura da rede urban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82560" y="2509920"/>
            <a:ext cx="773604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Panorama atual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Déficits e impacto na saúde públic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33520" y="2514600"/>
            <a:ext cx="7238520" cy="2895120"/>
            <a:chOff x="533520" y="2514600"/>
            <a:chExt cx="7238520" cy="2895120"/>
          </a:xfrm>
        </p:grpSpPr>
        <p:sp>
          <p:nvSpPr>
            <p:cNvPr id="229" name=""/>
            <p:cNvSpPr/>
            <p:nvPr/>
          </p:nvSpPr>
          <p:spPr>
            <a:xfrm>
              <a:off x="533520" y="2514600"/>
              <a:ext cx="1171800" cy="31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0" name="" descr=""/>
            <p:cNvPicPr/>
            <p:nvPr/>
          </p:nvPicPr>
          <p:blipFill>
            <a:blip r:embed="rId1"/>
            <a:stretch/>
          </p:blipFill>
          <p:spPr>
            <a:xfrm>
              <a:off x="1317960" y="2588760"/>
              <a:ext cx="6454080" cy="2820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Panorama atual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9023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-501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Déficits e impacto nos recursos hídric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59320" indent="-4294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Tratamento de esgo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11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50% do volume coletado em re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11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22,5% do volume de água consumi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11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5,2 milhões de domicílios estão ligados às redes de esgo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11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7,1 milhões de domicílios dispõem de fossas séptic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17520" indent="-357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odemos estimar que 22,6 milhões de domicílios urban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11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ançam seus esgotos diretamente no meio ambiente, s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11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nenhum tratamento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17520" indent="-357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nsiderando que o volume médio de esgoto coletado p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11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omicílio ligado à rede é de 490 litros/dia, podem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11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nferir que são lançados no ambiente aproximadam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11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11 milhões de m³/dia, sem nenhum tratamento.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Panorama atual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9023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Déficits e impacto nos recursos hídric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Perdas em sistemas de águ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914400" y="3124080"/>
          <a:ext cx="3505320" cy="270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124080"/>
                    <a:ext cx="350532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914400" y="5791320"/>
          <a:ext cx="3505320" cy="501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5791320"/>
                    <a:ext cx="350532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4724280" y="3710160"/>
          <a:ext cx="4114800" cy="18018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3710160"/>
                    <a:ext cx="4114800" cy="18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2T14:15:06Z</dcterms:created>
  <dc:creator>PNUD</dc:creator>
  <dc:description/>
  <dc:language>en-US</dc:language>
  <cp:lastModifiedBy>Paulo de Tarso Saudades</cp:lastModifiedBy>
  <dcterms:modified xsi:type="dcterms:W3CDTF">2002-03-14T11:17:42Z</dcterms:modified>
  <cp:revision>5</cp:revision>
  <dc:subject/>
  <dc:title>Presidência da República  Secretaria Especial de Desenvolvimento Urbano Programa de Modernização do Setor Saneamento - PMSS</dc:title>
</cp:coreProperties>
</file>